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006-F73C-4353-A8CF-EC203D51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DB9-6459-43BA-9BBE-0906FA32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9FA-0EAB-4518-AA27-D74F51F5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A35-7C01-4A42-8D2E-D2C47AFA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DBC-312A-476F-8A9F-C4F30786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366-DADB-4CBE-AF5C-2457725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3CF-AAC5-4EF8-AC13-87CFF7D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A76-C3FB-4A84-8641-2E2E965E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54F-566E-48F9-B0FF-CE210C3F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C79-2DAD-43B8-95B6-1CFA0BD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0BA-5535-482F-8EC0-E10E245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265-529F-4E5C-8D5D-77A3997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F7DF-8520-4D76-9162-174FC4D4A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8920" y="1380960"/>
          <a:ext cx="6086160" cy="409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380960"/>
                    <a:ext cx="6086160" cy="40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905120" y="1752480"/>
            <a:ext cx="1600200" cy="342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7:26:22Z</dcterms:created>
  <dc:creator>ERCOT</dc:creator>
  <dc:description/>
  <dc:language>en-US</dc:language>
  <cp:lastModifiedBy>ERCOT</cp:lastModifiedBy>
  <dcterms:modified xsi:type="dcterms:W3CDTF">2006-05-04T17:26:44Z</dcterms:modified>
  <cp:revision>1</cp:revision>
  <dc:subject/>
  <dc:title>Slide 1</dc:title>
</cp:coreProperties>
</file>